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529FC-95A1-4731-B331-44EE6024E5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64DBB-026B-48DD-83AB-D2D8D65F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3A7C8-BC50-4124-BE64-BD687AEA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0E49-DBA3-4B78-B305-75ED87E1B2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FD239-3CB8-4A00-B8F7-85BDF1A9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B056A-238D-41A7-957A-5F54DE40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8C09A-14B5-493D-9501-556AE27F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F4F1F-EBB6-4DC1-8507-37EC882C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4A06E-97FC-46CE-BD8A-0A8DCBB8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DE9A2-8674-4F48-953B-350AECD0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8162F-20B9-4615-9F26-D928C3E0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D0F9E-8054-44B9-9DD2-233EC9A3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9D2E-64B5-4E9D-9670-213C22A9C4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者给予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颅内占位性病变、颅内压增高，拟行手术治疗。入院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他清晨用力排便时突发剧烈头痛，呕吐，左侧肢体瘫痪，意识丧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/88 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右侧瞳孔散大，对光反射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出现了何种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为什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的急救护理措施有哪些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颅内压增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 与频繁呕吐、不能进食和脱水治疗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氧 ：持续或间断给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醒、模糊、浅昏迷、昏迷和深昏迷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瞳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初期瞳孔缩小，对光反射迟钝，后期患侧瞳孔逐渐扩大，直接或间接对光反射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肢体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颅内压突然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床休息，保持病室安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情绪激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剧烈咳嗽和用力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的急救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脱水治疗 遵医嘱快速静脉输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和呋塞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，吸氧。准备气管插管盘及呼吸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、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紧急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高渗性和利尿性脱水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脱水期间要观察血压、脉搏、尿量变化，注意观察和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水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防止颅内压反跳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肾上腺皮质激素如地塞米松、氢化可的松等，可预防和缓解脑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加强观察和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激素引起消化道应激性溃疡机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人房间，室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、意识和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温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患者的病情观察要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的定义、临床表现及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冬眠低温治疗、脑室引流疗法的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库欣反应的含义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两种常见脑疝的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室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无菌操作，妥善固定，保持引流通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翻身时防止引流管滑脱，每日更换引流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适当引流速度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脑脊液性状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脑室引流时间一般不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拔管前应试行夹闭引流管或抬高引流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观察有无颅内压增高现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腰大池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、记录引流液的量、色、质和速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效引流和预防感染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护理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者遵医嘱使用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躁动者寻找原因，遵医嘱给予镇静药物，切忌强行约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介绍疾病相关知识，指导患者及家属学习和掌握康复知识和技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患者要防止剧烈咳嗽、便秘、用力等诱发颅内压骤升的因素，避免脑疝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包括两方面，一是颅腔内容物的体积或量增加，二是颅内空间或颅腔容积缩小。前者多因脑体积增加（如脑组织损伤、缺血缺氧、中毒等导致脑水肿）、脑脊液增多或脑血流量增加。后者可因先天性因素（如狭颅症、颅底凹陷症等先天性畸形使颅腔容积变小）和后天性因素（如颅内血肿、脑肿瘤等颅内占位性病变使颅内空间相对缩小，或大片凹陷性颅骨骨折使颅腔容积变小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早和最主要的症状是头痛、呕吐与视盘水肿，合称颅内压增高三主征，其他有意识障碍、生命体征紊乱、脑疝和阵发性黑矇、头晕、猝倒、头皮静脉曲张等其他症状和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治疗、病因治疗、降低颅内压和对症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绝对卧床休息，保持病室安静。床头抬高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观察生命体征、瞳孔和意识等的变化。避免情绪激动、剧烈咳嗽和便秘，防止颅内压骤升。若出现脑疝及时处理。各项配合治疗的护理，如脱水、激素、脑疝急救、脑室引流和冬眠低温治疗的护理。对高热、头痛、呕吐患者注意对症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神经外科常见临床病理综合征，是颅脑损伤、脑肿瘤、脑出血、脑积水和颅内炎症等疾病引起颅腔内容物体积增加，导致颅内压持续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以上，并出现头痛、呕吐、视盘水肿等相应的综合征，称为颅内压增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多见于清晨，低头、用力时加重。头痛时有恶心呕吐，与进食无关。经常出现癫痫发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：头痛、呕吐、视盘水肿是颅内压增高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盘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：意识障碍进行性加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：意识障碍和瞳孔改变出现较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3:11Z</dcterms:modified>
  <cp:revision>90</cp:revision>
  <dc:subject/>
  <dc:title>内科护理学</dc:title>
</cp:coreProperties>
</file>